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D8BC-3D6E-4EB4-B585-EEAC13E6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9DC-3BE1-4134-B012-6C95BCB5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7E7-CA4A-49F5-BE31-02864327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005D-5DCD-487F-8E89-B1616212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CE4-0585-4DB1-AADA-43651AC8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C54-0ED3-4CF0-B93B-A4C8F0C9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78E2-348C-4CC0-BBB5-6AADB38A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FB8-2D16-4C69-8143-20B63F62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7C8-DA97-43A9-A082-23D8FB03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A9C7-1C19-4C76-882E-CCEF39B9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E519-CD8C-4B97-A7DC-FD7784CA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1B4E-6A3B-43B6-BC26-267AD7D6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D306-DC12-4899-A963-9911D76B452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1484280"/>
            <a:ext cx="720072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Fotos extrañas!!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 Black"/>
              </a:rPr>
              <a:t>              </a:t>
            </a: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Arial Black"/>
              </a:rPr>
              <a:t>Camill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76360" y="476280"/>
            <a:ext cx="64105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712620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050920" y="260280"/>
            <a:ext cx="472788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684072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63640" y="476280"/>
            <a:ext cx="52675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87280" y="620640"/>
            <a:ext cx="68533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79640" y="333360"/>
            <a:ext cx="5257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63640" y="549360"/>
            <a:ext cx="57596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42920" y="836640"/>
            <a:ext cx="716436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81400" y="189000"/>
            <a:ext cx="3990960" cy="65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27416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753408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698508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547640" y="765000"/>
            <a:ext cx="597708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42920" y="692280"/>
            <a:ext cx="712944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50920" y="538200"/>
            <a:ext cx="476892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03280" y="1268280"/>
            <a:ext cx="590400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66840"/>
            <a:ext cx="9144000" cy="61228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476280"/>
            <a:ext cx="8028000" cy="6021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46320" y="0"/>
            <a:ext cx="48513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0"/>
            <a:ext cx="43862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7561440" cy="45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14400" y="0"/>
            <a:ext cx="55134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33440" y="0"/>
            <a:ext cx="46771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25440"/>
            <a:ext cx="9144000" cy="62056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2960" y="0"/>
            <a:ext cx="7858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95640" y="0"/>
            <a:ext cx="4752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4520" y="0"/>
            <a:ext cx="79135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57120"/>
            <a:ext cx="9144000" cy="61419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00360" y="287280"/>
            <a:ext cx="385452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" y="0"/>
            <a:ext cx="9136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476280"/>
            <a:ext cx="7848360" cy="5886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14640" y="260280"/>
            <a:ext cx="476244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79440"/>
            <a:ext cx="9144000" cy="6099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317600" y="765000"/>
            <a:ext cx="635004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333360"/>
            <a:ext cx="8172720" cy="6129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765000"/>
            <a:ext cx="7561080" cy="555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92120"/>
            <a:ext cx="9144000" cy="5872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5761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56108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0"/>
            <a:ext cx="50292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99880"/>
            <a:ext cx="9144000" cy="6258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76280"/>
            <a:ext cx="8028000" cy="6021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480"/>
            <a:ext cx="9144000" cy="684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65200"/>
            <a:ext cx="9144000" cy="5726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92360" y="333360"/>
            <a:ext cx="54068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116000" y="83664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692360" y="260280"/>
            <a:ext cx="56419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87280" y="549360"/>
            <a:ext cx="663912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33560" y="0"/>
            <a:ext cx="7075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66960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47640" y="907920"/>
            <a:ext cx="6048720" cy="51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19480" y="0"/>
            <a:ext cx="45036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00000" y="765000"/>
            <a:ext cx="7093080" cy="531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0560" y="0"/>
            <a:ext cx="6967440" cy="6805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22560" y="5950080"/>
            <a:ext cx="210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Buen dia…</a:t>
            </a:r>
            <a:br>
              <a:rPr sz="1800"/>
            </a:b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camilleskaff@hot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20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" dur="1" fill="hold"/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55964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08000" y="404640"/>
            <a:ext cx="54817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777708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21:08:58Z</dcterms:created>
  <dc:creator>Rromero</dc:creator>
  <dc:description/>
  <dc:language>en-US</dc:language>
  <cp:lastModifiedBy>.</cp:lastModifiedBy>
  <dcterms:modified xsi:type="dcterms:W3CDTF">2007-03-10T02:46:15Z</dcterms:modified>
  <cp:revision>6</cp:revision>
  <dc:subject/>
  <dc:title>Diapositiva 1</dc:title>
</cp:coreProperties>
</file>